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E55-7401-4C98-823E-0CEAAA89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0B6-7EF7-4EA7-BCDC-563602C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42B-FBED-467F-8794-979AA174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398-E96C-4098-97D0-D0F9E237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1AF9-6EAF-4A1B-97DE-72EDBB8F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B4E4-D630-4AAD-A8B8-0056F0AC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B836-A078-45C9-88E7-98A9B53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BBFA-1483-48F0-8612-C5FB37B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E09F-E4C9-4FF6-9E36-59773EF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6875-9C41-4145-8FEA-CF69A5D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87B-18D6-4461-985F-C49E824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726-4449-42BA-9BBB-2EAC2A47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1ED-F931-4079-8051-4EDD633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B3F-4A91-4506-B98C-3F95D897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A1C4-22AE-44C2-874F-5DEC644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4C02-6890-432C-83DC-6D82CA7B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0CA-7778-4A38-AA49-3FACE9D8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AB82-D97D-46EE-B57F-73113359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BD94-5FEF-4B74-9874-713EA046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FDDA-2CDB-44CD-B2A3-49E50EC5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7C6E-B9AB-407C-B17E-5E27645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E030-7549-471B-9231-A211A157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C06-AE72-484E-B43C-F49C39A5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81D4-1C45-4A16-B913-F46B84D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EDDE-88DD-41E9-B4F1-B03DB79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FC42-8998-41EA-9BBD-C1774E8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D2CB-6439-4AB1-B6BF-7BC01771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41B-05A7-4735-8632-52672E3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8856-949A-4CE8-98A8-D76E65F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3C44-1A22-4B6B-A597-D8908FDD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285E-D0D6-411B-B3C2-819F1D6F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C87A-DC6C-4B08-AD28-E3D1B0F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9470-460A-4E52-91D2-A32B2E0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7B3-ADD4-42D4-9B0F-7185A4A3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384D-2B81-4F96-9E8F-B5C44E7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FF0A-BABB-454F-B05E-B2F8E170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ABA9-E886-4FD6-81D2-AE911F70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FDC8-0813-40C2-88C6-5A8E22D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C94D-1CF0-4998-83F0-AE86508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0920-067A-431E-B5B6-1A40D73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22D7-6F2C-4EA7-A9E4-2BED248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E436-ACBB-421A-BAC5-19B9200E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523D-D720-4EDB-9B56-7B4BFEDD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CBCC-5E9A-4F68-8A31-86CBB926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146-20A4-4B60-805A-C0D1130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9DAB-7548-442E-9B3B-8F911AA4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3D27-BAC9-4DD4-B5F7-EE2BB56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BB59-5FF7-4C58-B38B-4070B4A5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AC2D-1C68-4F37-8630-17705156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529B-ABED-4227-8C1E-2EED9F82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A52C-687B-4D35-A4A8-835D934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AA730-EEEE-496B-B6C0-BE7C798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D542-706A-427D-AFF5-E05F5AB5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7297-2A7C-4E11-96ED-2568878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446F-98F9-4488-90CC-E4916F10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282-EEA7-4D2E-A932-B9A5A49D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B3DE-9F1B-4597-8303-4641C4B3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CFC1-80C9-4131-B41F-A5CAC612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EB61-BF9A-4A81-B5C6-4DD4B487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C4827-A8C1-4741-875C-94ED650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CCB06-8C31-493C-8F84-F8AD93A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8DB8-5A73-42F8-8875-A2EA9AA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D5A7-259D-404F-9970-E3EEAA2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3047-1D74-40F5-AA35-1F625E7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D7E6-1081-478B-872F-F76B68B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A724-924F-456A-A9BA-8DEC008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F56-B7AA-473B-8C25-00B4A1E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5DF0-2A65-4527-87A7-D8029898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BFA7-F08F-4261-B6FC-323CB06C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42E7-9E84-4C5E-AC70-C2F7F15B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40CF-7346-4DF2-93F2-75C51C73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A6EB-A899-43A5-BF2A-A5083D1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3B856-46E3-435E-AC6D-9509B6C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3E4B-8666-4ACE-BB20-0D4C165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CC47-776D-4E20-9645-C2F3D8C6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78C0F-D52D-41ED-A0E1-468FE91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6899-7621-48F7-B223-FCBA814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49A-1FD4-4A06-8F6D-5A6B45A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4619-C190-4657-8A3D-909DDE4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F253-FBCF-4C4D-8F20-504783B7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CEDCB-D8F9-4AD7-BD46-BDBD34F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26C4-FC20-4A5F-ABDE-9D2356E2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801C-A6C9-42C3-9035-039D1BC9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F34-9FE6-48D9-BF60-D552C39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10F-D272-426C-BC5E-D9B1468266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4566-AF18-4AED-8695-D063186E4DC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5CE-32BB-4C98-B523-10CA1C7202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7327-B89E-4090-96BB-5ED96273C2F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C45-A6F3-44FF-B4D7-1B486BB9344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E29-9D65-40ED-99A2-EDE28A7D76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0BF6-402E-4BFA-9029-0CA7E31C48F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ptv.org/digital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46144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illiam T. Hay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irector of Engineer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owa Public Televis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Content Placeholder 3" descr="IMG_0023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’s Happening in the TV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5" descr="Television Block Diagram.jpg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ypical Television Hook 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Antenna to TV.jpg"/>
          <p:cNvPicPr/>
          <p:nvPr/>
        </p:nvPicPr>
        <p:blipFill>
          <a:blip r:embed="rId1"/>
          <a:stretch/>
        </p:blipFill>
        <p:spPr>
          <a:xfrm>
            <a:off x="933480" y="1600200"/>
            <a:ext cx="7602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ypical Television w/Convert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Antenna to Converter to TV.jpg"/>
          <p:cNvPicPr/>
          <p:nvPr/>
        </p:nvPicPr>
        <p:blipFill>
          <a:blip r:embed="rId1"/>
          <a:stretch/>
        </p:blipFill>
        <p:spPr>
          <a:xfrm>
            <a:off x="1092240" y="1981080"/>
            <a:ext cx="744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ow does a converter box hook up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IMG_0011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iptv.org/digital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515-242-310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800-532-129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.O. Box 645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Johnston, IA 50131-645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s Digital Television (DTV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the replacement for analog television, the TV we’ve been watching for the last 70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uses the same channels but in a different wa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50880" indent="-2512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alog receivers cannot understand digital signa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50880" indent="-2512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me DTV receivers can understand analog signa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February 18, 2009 analog will be shut off and only digital will rem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 you receive TV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 th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DTV mean to cable viewers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ble has been mandated to either provide all of its users the ability to receive local digital television 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vert the local digital television stations to analog and supply that to subscrib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DTV mean to over the air viewers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 the air viewers must do something or they will lose all service on February 18, 2009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can over the air viewers do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can buy all new televisions that have digital receivers 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can buy a TV converter box that have digital receivers but convert the digital signals to analog for presentation on existing analog televis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Digital Converter 1.jpg"/>
          <p:cNvPicPr/>
          <p:nvPr/>
        </p:nvPicPr>
        <p:blipFill>
          <a:blip r:embed="rId1"/>
          <a:stretch/>
        </p:blipFill>
        <p:spPr>
          <a:xfrm>
            <a:off x="1511280" y="2198520"/>
            <a:ext cx="6578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jasco_ge_converter_box_pg6.jpg"/>
          <p:cNvPicPr/>
          <p:nvPr/>
        </p:nvPicPr>
        <p:blipFill>
          <a:blip r:embed="rId1"/>
          <a:stretch/>
        </p:blipFill>
        <p:spPr>
          <a:xfrm>
            <a:off x="1257480" y="1676520"/>
            <a:ext cx="6797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Content Placeholder 3" descr="IMG_0016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22:02:31Z</dcterms:created>
  <dc:creator>William T. Hayes</dc:creator>
  <dc:description/>
  <dc:language>en-US</dc:language>
  <cp:lastModifiedBy>William T. Hayes</cp:lastModifiedBy>
  <dcterms:modified xsi:type="dcterms:W3CDTF">2008-03-28T15:05:37Z</dcterms:modified>
  <cp:revision>14</cp:revision>
  <dc:subject/>
  <dc:title>What the digital television transition means.</dc:title>
</cp:coreProperties>
</file>